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76EE-41B5-41C2-9B5C-D54C79E1A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A3EC-273E-4152-BB3E-FF69DFE9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40DE-BD27-45A4-A4CB-D698262D3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704D-B5F1-4CE5-97D3-2DF8B077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2A69-F233-4792-9140-B9CE82D2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2CA2-829E-4B83-A07F-D63F1B78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5632-D2D4-4811-98A8-8D9E39CA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5152-F947-4899-90D8-05DA987B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DC95-F172-41D5-B6CF-837CB5DA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15B0-FFCD-44CE-9354-855D0D71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64BF-BFC4-4D40-8E5F-AC42AECD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008D-16EF-4353-B9F9-66CF482E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DB19-4C01-4AFE-9FE9-47ACC31413C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371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os tiempos del pasado: Pretérito perfecto – Pretérito indefinido – Imperf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05920" cy="4068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 de las facetas de la gramática del español que más ríos de tinta ha provocado y sigue provocando es, entre otras, el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pretérito imperfecto: su uso y especialmente su contras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con el pretérito indefinido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n resumen, el pretérito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imperfec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no es un “pasado no acabado”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Cualquier acción pasada, por el mero hecho de ser pasada, está conclu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ran parte de los usos y efectos de sentido concretos con los que se relaciona el imperfecto en español surgen de la falta de especificación en relación con la terminación o no de los hechos a los que se refi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153280" cy="5592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uchos estudiantes extranjeros hacen confusión entre  la realidad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lingüístic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presentar un hecho como no terminado en un momento del pasado, gracias a una forma verbal concreta: el imperfecto) y la realidad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extralingüístic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pensar que la acción designada por el verbo no ha terminado todavía en el presente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tro punto de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conflic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lo constituye el uso del pretérito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imperfec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con verbos de aspecto léxico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perfectiv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; son verbos como </a:t>
            </a:r>
            <a:r>
              <a:rPr b="0" i="1" lang="it-IT" sz="3200" spc="-1" strike="noStrike">
                <a:solidFill>
                  <a:srgbClr val="ff0066"/>
                </a:solidFill>
                <a:latin typeface="Arial"/>
              </a:rPr>
              <a:t>disparar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, </a:t>
            </a:r>
            <a:r>
              <a:rPr b="0" i="1" lang="it-IT" sz="3200" spc="-1" strike="noStrike">
                <a:solidFill>
                  <a:srgbClr val="ff0066"/>
                </a:solidFill>
                <a:latin typeface="Arial"/>
              </a:rPr>
              <a:t>explotar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, </a:t>
            </a:r>
            <a:r>
              <a:rPr b="0" i="1" lang="it-IT" sz="3200" spc="-1" strike="noStrike">
                <a:solidFill>
                  <a:srgbClr val="ff0066"/>
                </a:solidFill>
                <a:latin typeface="Arial"/>
              </a:rPr>
              <a:t>apagar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o </a:t>
            </a:r>
            <a:r>
              <a:rPr b="0" i="1" lang="it-IT" sz="3200" spc="-1" strike="noStrike">
                <a:solidFill>
                  <a:srgbClr val="ff0066"/>
                </a:solidFill>
                <a:latin typeface="Arial"/>
              </a:rPr>
              <a:t>marcar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3200" spc="-1" strike="noStrike">
                <a:solidFill>
                  <a:srgbClr val="ff0066"/>
                </a:solidFill>
                <a:latin typeface="Arial"/>
              </a:rPr>
              <a:t>un gol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etc. Sin embargo, nada impide adoptar para estas acciones la perspectiva del imperfecto, puesto que con esta forma verbal únicamente no se especifica el desarrollo completo del proce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05920" cy="58212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segunda clave para comprender el significado del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imperfec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s ser conscientes de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su valor equivalente al del pres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uiz Campillo define  así el imperfecto frente al present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 el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presen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nos referimos a hechos que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suceden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n el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momento en que hablamos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 el pretérito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imperfec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nos referimos a hechos que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suceden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(que sucedían) en el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momento de la historia en que nos hallamos(hallabamos) cuando la estamos narra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81880" cy="5668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n definitiva, con el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presen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designamos hechos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no terminados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n el momento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actual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y con el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imperfec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representamos hechos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no terminados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n un momento del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pasad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uando usamos el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presen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stamos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dentro de la escena actual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y describimos lo que pasa “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aquí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 el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imperfec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al recordar aquellos mismos hechos, trasladamos esa misma perspectiva a un momento del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pasad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nos situamos dentro de una escena pasada y describimos lo que pasaba “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allí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”. Podemos observar esta correlación en los siguientes ejemplos :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AHOR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¡Cuánto </a:t>
            </a: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llueve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Mi novia </a:t>
            </a: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una chica muy intelig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Todas las noches </a:t>
            </a: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estudio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una hora.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28600" y="175248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ENTO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Llovía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mucho aquel d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Mi primera novia </a:t>
            </a: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era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muy inteligente.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Antes </a:t>
            </a: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estudiaba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una hora todas las noches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n el caso del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pretérito imperfec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explicar este tiempo verbal por medio de un listado de usos o contextos de aparición no es explicar su significado, su sentido, sino enumerar para qué se usa. Por lo tanto debemos partir de un paso previ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xplicar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qué es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l imperfecto y de ahí, una vez definido, comprender para qué se us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RESTRICCIÓN DE SIMULTANEIDAD. EL “IMPERFECTO PERIODÍSTIC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stañeda señala que el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pretéri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imperfec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adquiere su valor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imperfectiv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prototípico de manera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equivalen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a como el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presen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adquiere su valor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imperfectiv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prototípico a partir de la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restricción de simultaneidad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respecto del momento de la enunciación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305920" cy="5592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a restricción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excluy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el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presen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como tiempo para expresar acciones perfectivas porque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no podemos contar las cosas a la vez que suceden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 Por eso para hablar de la realidad actual no utilizam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únicamente el presente sino también el pretérito perfec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emplos: Me voy de esta fiesta porque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estoy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masiado borrach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 voy de esta fiesta porque me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he enfadado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 mis amigos [No *porque me enfado]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contar un hecho conclui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debemos esperar a que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concluy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por lo que el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acto de habla es siempre posterior al hecho concluid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s de noche y muy tarde. Estás caminando por la calle hacia a tu casa y suena tu teléfono móvil. Es tu madre, que te pregunt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- ¿Pero dónde estás? ¡Estoy muy preocupada! ¿Por qué no estás todavía en cas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¿Cómo puedes respond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81880" cy="5211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o siento, mami, es que __________ (perder) el último autobús y a estas horas el metro __________ (estar) cer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Tranquila, voy para allá caminando, que no __________ (tener) dinero para un tax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cabo de salir del cine. Es que la película __________ (acabar) muy tar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¿Qué hora es...? ¡Anda, mi reloj no __________ (funcionar)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Situació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stás en casa y suena el teléfono fijo. Es tu mejor amiga, que te dic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- ¡Oye, te he escrito un mensaje de móvil hace un rato! ¿Por qué no me contesta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8153280" cy="5668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¿Cómo puedes respond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ues porque no __________ (tener) sal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ye, ahora __________ (estar) en clase de piano, con la profesora particular, y no __________ (llevar) el móvil enci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¡Qué raro, pero si no lo __________ (recibir)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ira, es que mi móvil __________ (romperse) y en este momento __________ (estar) apaga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Situación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stás de compras en una tienda de ropa con tu hermana y tu amiga Lucía. Acabas de salir de los probadores y llevas una camiseta roja en la mano, pero la dejas encima del montón de ropa que está ordenando una dependienta. Tu hermana te pregunt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- Anda, ¿no te compras la camiset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58975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¿Cómo puedes respond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o, es que no __________ (tener) suficiente diner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Bueno, __________ (cambiar) de opinión, __________ (ser) demasiado ca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o, no me __________ (quedar) bien, no __________ (ser) mi talla y me va un poco gran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o sé, es que Lucía se __________ (comprar) la misma y no quiero ir igual que el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Situación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on las once y media de la noche aproximadamente y recibes una llamada de teléfono. Escuchas la voz de tu mejor amigo, que te dic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- Bueno, ¿qué?, ¿no me vas a felicitar? ¡Es mi cumpleañ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aliendo de esta distinción, es importante subrayar la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importancia de la subjetividad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a la hora de hablar del pasado, porque según Matte Bon: :'No existen acontecimientos que, por si mismos, exijan el pretérito indefinido más que el imperfecto o el de un tiempo compuesto.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Un mismo acontecimiento puede ser relatado de distintas maneras mediante el empleo de uno u otro de estos tiempos"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8153280" cy="58212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3399"/>
                </a:solidFill>
                <a:latin typeface="Arial"/>
              </a:rPr>
              <a:t>¿Cómo puedes responder?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¡Ahí va, qué fallo! Lo confieso, __________ (olvidarse) completam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nda, ¿hoy es 19? ¡ __________ (equivocarse) de día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alla, calla, que __________ (perder) mi agenda y mi vida es un ca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í, si te he llamado varias veces, ¡pero es que todavía no __________ (tener) tu nuevo número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lamente los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verb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imperfectiv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( acciones de las cuales no nos importa el término)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se utilizan en la forma de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presen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con el sentido estricto de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esta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de cosas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vigent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en el mismo momento en el que hablamos, es decir,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simultáneo al tiemp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del acto de habl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Tengo sueño; Estoy cansa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o obstante, también es perfectamente </a:t>
            </a:r>
            <a:r>
              <a:rPr b="0" lang="it-IT" sz="3200" spc="-1" strike="noStrike">
                <a:solidFill>
                  <a:srgbClr val="ff3399"/>
                </a:solidFill>
                <a:latin typeface="Arial"/>
              </a:rPr>
              <a:t>posib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3399"/>
                </a:solidFill>
                <a:latin typeface="Arial"/>
              </a:rPr>
              <a:t>narrar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los acontecimientos al </a:t>
            </a:r>
            <a:r>
              <a:rPr b="0" lang="it-IT" sz="3200" spc="-1" strike="noStrike">
                <a:solidFill>
                  <a:srgbClr val="ff3399"/>
                </a:solidFill>
                <a:latin typeface="Arial"/>
              </a:rPr>
              <a:t>mismo tiempo que ocurren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s lo habitual en las </a:t>
            </a:r>
            <a:r>
              <a:rPr b="0" lang="it-IT" sz="3200" spc="-1" strike="noStrike">
                <a:solidFill>
                  <a:srgbClr val="ff3399"/>
                </a:solidFill>
                <a:latin typeface="Arial"/>
              </a:rPr>
              <a:t>retransmisiones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it-IT" sz="3200" spc="-1" strike="noStrike">
                <a:solidFill>
                  <a:srgbClr val="ff3399"/>
                </a:solidFill>
                <a:latin typeface="Arial"/>
              </a:rPr>
              <a:t>direc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de, por ejemplo, partidos de fútbol o eventos significativ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a. </a:t>
            </a: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Cae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al suelo Morientes... y el árbitro </a:t>
            </a: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pita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penalt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a.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En estos momentos </a:t>
            </a: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llega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el papamóvil a la avenida y el público </a:t>
            </a: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salud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siderando los ejemplos anteriores, no existe problema alguno para aceptar sin reparo alguno el uso del llamado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imperfecto periodístico o narrativ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puesto que obedece a las mismas razones estilísticas que los ejemplos ofrecidos en la forma verbal de presente, sólo que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trasladando la perspectiva a un momento del pasa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b.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En el último minuto de partido </a:t>
            </a:r>
            <a:r>
              <a:rPr b="1" i="1" lang="es-ES" sz="3200" spc="-1" strike="noStrike">
                <a:solidFill>
                  <a:srgbClr val="ff3399"/>
                </a:solidFill>
                <a:latin typeface="Arial"/>
              </a:rPr>
              <a:t>caía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al suelo Morientes y el árbitro </a:t>
            </a:r>
            <a:r>
              <a:rPr b="1" i="1" lang="es-ES" sz="3200" spc="-1" strike="noStrike">
                <a:solidFill>
                  <a:srgbClr val="ff3399"/>
                </a:solidFill>
                <a:latin typeface="Arial"/>
              </a:rPr>
              <a:t>pitaba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penalt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b.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El papamóvil </a:t>
            </a:r>
            <a:r>
              <a:rPr b="1" i="1" lang="es-ES" sz="3200" spc="-1" strike="noStrike">
                <a:solidFill>
                  <a:srgbClr val="ff3399"/>
                </a:solidFill>
                <a:latin typeface="Arial"/>
              </a:rPr>
              <a:t>llegaba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a la avenida a las cinco y media, momento en que el público </a:t>
            </a:r>
            <a:r>
              <a:rPr b="1" i="1" lang="es-ES" sz="3200" spc="-1" strike="noStrike">
                <a:solidFill>
                  <a:srgbClr val="ff3399"/>
                </a:solidFill>
                <a:latin typeface="Arial"/>
              </a:rPr>
              <a:t>saludaba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enfervorecido al pontífi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alicemos ahora la propuesta de las investigadoras Montserrat Pons Tovar y Francisca Miranda Paredes(Universidad de Málaga) para distinguir el uso de pretérito indefinido y pretérito imperfec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1 .PRETÉRITO INDEFIN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.US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expresar una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acción pasada que no tiene relación con el pres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emplos: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El verano pasado fui a Estados Un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oche vimos a Pabl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as acciones pasadas pueden referirse a nuestra vida (autobiografía) o a la vida de otras personas(biografía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Me licencié en 19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Unamuno fue profesor en Salaman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. Marcadores tempora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ayer, anteayer, anoche, anteanoch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el mes pasado, el año pasado, aquel día, en 1997, durante x tiemp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una, dos, tres ...vec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muchos años, toda la vida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305920" cy="5973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ES" sz="3200" spc="-1" strike="noStrike">
                <a:solidFill>
                  <a:srgbClr val="ff3399"/>
                </a:solidFill>
                <a:latin typeface="Arial"/>
              </a:rPr>
              <a:t>PRETÉRITO IMPERFECT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s-ES" sz="3200" spc="-1" strike="noStrike">
                <a:solidFill>
                  <a:srgbClr val="ff3399"/>
                </a:solidFill>
                <a:latin typeface="Arial"/>
              </a:rPr>
              <a:t>Usos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Para describir en el pasado  personas, cosas o situacion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Marta </a:t>
            </a:r>
            <a:r>
              <a:rPr b="0" i="1" lang="es-ES" sz="3200" spc="-1" strike="noStrike">
                <a:solidFill>
                  <a:srgbClr val="ff3399"/>
                </a:solidFill>
                <a:latin typeface="Arial"/>
              </a:rPr>
              <a:t>llevaba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el pelo suel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El castillo </a:t>
            </a:r>
            <a:r>
              <a:rPr b="0" i="1" lang="es-ES" sz="3200" spc="-1" strike="noStrike">
                <a:solidFill>
                  <a:srgbClr val="ff3399"/>
                </a:solidFill>
                <a:latin typeface="Arial"/>
              </a:rPr>
              <a:t>era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enorme  y </a:t>
            </a:r>
            <a:r>
              <a:rPr b="0" i="1" lang="es-ES" sz="3200" spc="-1" strike="noStrike">
                <a:solidFill>
                  <a:srgbClr val="ff3399"/>
                </a:solidFill>
                <a:latin typeface="Arial"/>
              </a:rPr>
              <a:t>estaba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en un jardín estupe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3399"/>
                </a:solidFill>
                <a:latin typeface="Arial"/>
              </a:rPr>
              <a:t>Hacía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tanto calor que la gente </a:t>
            </a:r>
            <a:r>
              <a:rPr b="0" i="1" lang="es-ES" sz="3200" spc="-1" strike="noStrike">
                <a:solidFill>
                  <a:srgbClr val="ff3399"/>
                </a:solidFill>
                <a:latin typeface="Arial"/>
              </a:rPr>
              <a:t>prefería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salir de casa sólo por la no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305920" cy="57452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n el caso del contraste indefinido-imperfecto, Ortega y Castañeda sintetizan en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tres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grandes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categorías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las diferentes concepciones de esta oposición existentes en la gramátic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Para hablar de acciones que se realizan normalmente en el pas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3399"/>
                </a:solidFill>
                <a:latin typeface="Arial"/>
              </a:rPr>
              <a:t>Todos los días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a la tres de la tarde mi abuelo </a:t>
            </a:r>
            <a:r>
              <a:rPr b="0" i="1" lang="es-ES" sz="3200" spc="-1" strike="noStrike">
                <a:solidFill>
                  <a:srgbClr val="ff3399"/>
                </a:solidFill>
                <a:latin typeface="Arial"/>
              </a:rPr>
              <a:t>dormía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la sie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04560" y="380520"/>
            <a:ext cx="8381880" cy="57452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- Para hablar con cortesí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Queria cerrar la ventana?Hace mucho frí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uso del imperfecto en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xpresiones c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3399"/>
                </a:solidFill>
                <a:latin typeface="Arial"/>
              </a:rPr>
              <a:t>Quería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una chocolatina o ¿Qué vas a hacer hoy?/</a:t>
            </a:r>
            <a:r>
              <a:rPr b="0" i="1" lang="es-ES" sz="3200" spc="-1" strike="noStrike">
                <a:solidFill>
                  <a:srgbClr val="ff3399"/>
                </a:solidFill>
                <a:latin typeface="Arial"/>
              </a:rPr>
              <a:t>Pensaba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ir al cine,pero no 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deriva de la interpretación siguiente: con el imperfecto se habla de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deseos o intencion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actuales de forma indirecta, sin estar seguros de llevarlos a cab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;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señala que en el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pasado inmediato albergaba tales intencion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y, puesto que no se expresa ni la consecución ni el cese de las mismas (al usar imperfecto y no el indefinido), se da a entender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aún siguen vigent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sin tener que afirmarlo de forma direc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Marcadores tempora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siempre, casi siempre, normalmente, frecuentemente, cuando era pequeño, cuando era más joven, una, dos... veces al día/mes/año, mien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579240"/>
            <a:ext cx="8229600" cy="5592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99"/>
                </a:solidFill>
                <a:latin typeface="Arial"/>
              </a:rPr>
              <a:t>CONTRASTE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imperfec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expresa acciones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larg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que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duran en el tiemp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indefini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expresa acciones que suceden en un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momento  del pasado o acciones corta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Arial"/>
              </a:rPr>
              <a:t>Conoció</a:t>
            </a:r>
            <a:r>
              <a:rPr b="0" i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a su marido cuando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vivía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en Mad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28240" y="1676160"/>
            <a:ext cx="8458200" cy="37335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explicar la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caus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de una acción utilizamos el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imperfec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-¿Por qué no viniste ayer?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o vine ayer porque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estaba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enferma -Como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estaba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enferma no vine 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ando contamos historias reales o inventadas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empezamos con una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descripción(imperfec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 u="sng">
                <a:solidFill>
                  <a:srgbClr val="ff3399"/>
                </a:solidFill>
                <a:uFillTx/>
                <a:latin typeface="Arial"/>
              </a:rPr>
              <a:t>Había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una vez una niña que se </a:t>
            </a:r>
            <a:r>
              <a:rPr b="0" i="1" lang="es-ES" sz="3200" spc="-1" strike="noStrike" u="sng">
                <a:solidFill>
                  <a:srgbClr val="ff3399"/>
                </a:solidFill>
                <a:uFillTx/>
                <a:latin typeface="Arial"/>
              </a:rPr>
              <a:t>llamaba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Caperuci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spués contamos las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acciones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habitua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de los personaj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0000"/>
                </a:solidFill>
                <a:latin typeface="Arial"/>
              </a:rPr>
              <a:t>Iba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todos los días a casa de su abuelita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después pasar a contar la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acció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en sí (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pretérito indefini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Un día Caperucíta </a:t>
            </a:r>
            <a:r>
              <a:rPr b="0" i="1" lang="es-ES" sz="3200" spc="-1" strike="noStrike" u="sng">
                <a:solidFill>
                  <a:srgbClr val="ff3399"/>
                </a:solidFill>
                <a:uFillTx/>
                <a:latin typeface="Arial"/>
              </a:rPr>
              <a:t>tuvo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que ir a casa de su abuela sola, así que </a:t>
            </a:r>
            <a:r>
              <a:rPr b="0" i="1" lang="es-ES" sz="3200" spc="-1" strike="noStrike" u="sng">
                <a:solidFill>
                  <a:srgbClr val="ff3399"/>
                </a:solidFill>
                <a:uFillTx/>
                <a:latin typeface="Arial"/>
              </a:rPr>
              <a:t>cogió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su cesta, </a:t>
            </a:r>
            <a:r>
              <a:rPr b="0" i="1" lang="es-ES" sz="3200" spc="-1" strike="noStrike" u="sng">
                <a:solidFill>
                  <a:srgbClr val="ff3399"/>
                </a:solidFill>
                <a:uFillTx/>
                <a:latin typeface="Arial"/>
              </a:rPr>
              <a:t>salió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de su casa y </a:t>
            </a:r>
            <a:r>
              <a:rPr b="0" i="1" lang="es-ES" sz="3200" spc="-1" strike="noStrike" u="sng">
                <a:solidFill>
                  <a:srgbClr val="ff3399"/>
                </a:solidFill>
                <a:uFillTx/>
                <a:latin typeface="Arial"/>
              </a:rPr>
              <a:t>empezó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a and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153280" cy="57452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a vez entendidos perfectamente estos usos, se puede pasar a un plano más complejo con la explicación del uso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subjetiv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de los tiemp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la or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Ayer Juan </a:t>
            </a:r>
            <a:r>
              <a:rPr b="0" i="1" lang="es-ES" sz="3200" spc="-1" strike="noStrike">
                <a:solidFill>
                  <a:srgbClr val="ff0066"/>
                </a:solidFill>
                <a:latin typeface="Arial"/>
              </a:rPr>
              <a:t>cantó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en la fie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tilizamos el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indefini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maginemos que Juan es muy tímido y por eso la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acción de cant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es muy importante, es una </a:t>
            </a:r>
            <a:r>
              <a:rPr b="1" lang="es-ES" sz="3200" spc="-1" strike="noStrike">
                <a:solidFill>
                  <a:srgbClr val="ff3399"/>
                </a:solidFill>
                <a:latin typeface="Arial"/>
              </a:rPr>
              <a:t>acción única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ro también es posib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Ayer Juan </a:t>
            </a:r>
            <a:r>
              <a:rPr b="1" i="1" lang="es-ES" sz="3200" spc="-1" strike="noStrike">
                <a:solidFill>
                  <a:srgbClr val="ff0066"/>
                </a:solidFill>
                <a:latin typeface="Arial"/>
              </a:rPr>
              <a:t>cantaba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en la fie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Por qué? Para nosotros lo importante no es tanto la acción como su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duració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en sí: imaginemos que Juan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cantó desde las doce de la noche hasta las cinco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 la mañana. El uso del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imperfec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nos da la idea de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duració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primer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de carácter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aspectual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que señala como rasgo distintivo el valor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terminativ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perfectiv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del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indefinid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frente al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terminativ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imperfectivo del imperfec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segund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de carácter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temporal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que considera el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imperfec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como un tiempo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relativ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por lo que el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proces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designado por esta forma verbal se entiende como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simultáne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a otro momento del pasado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35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 lo que se refiere al  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etérito Perfec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Matte Bon afirm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 tiempo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pues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haber + participio pasa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) que sirve cuando  al enunciador  no le interesa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contar el hech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al que se sefiere en sí, sino en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3200" spc="-1" strike="noStrike" u="sng">
                <a:solidFill>
                  <a:srgbClr val="ff0066"/>
                </a:solidFill>
                <a:uFillTx/>
                <a:latin typeface="Arial"/>
              </a:rPr>
              <a:t>medida en que está en relación con el tiempo presente de indic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las gramáticas tradicionales ningún autor decía que, en realidad, el </a:t>
            </a:r>
            <a:r>
              <a:rPr b="1" lang="es-ES" sz="3200" spc="-1" strike="noStrike">
                <a:solidFill>
                  <a:srgbClr val="ff3399"/>
                </a:solidFill>
                <a:latin typeface="Arial"/>
              </a:rPr>
              <a:t>pretérito perfecto e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3399"/>
                </a:solidFill>
                <a:latin typeface="Arial"/>
              </a:rPr>
              <a:t>más un tiempo del  presente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que del pasa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ya que es una manera de hablar de cosa pasadas, presentándolas como algo que, en el contexto considerado , no nos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interes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en sí, sino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n su </a:t>
            </a:r>
            <a:r>
              <a:rPr b="1" lang="es-ES" sz="3200" spc="-1" strike="noStrike">
                <a:solidFill>
                  <a:srgbClr val="ff3399"/>
                </a:solidFill>
                <a:latin typeface="Arial"/>
              </a:rPr>
              <a:t>relación con el presen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160" y="380880"/>
            <a:ext cx="8001000" cy="6477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veces, al emplear el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pretérito perfec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el enunciador presenta lo dicho como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alg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provisional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 señala que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no puede considerarlo del todo como perteneciente al pasad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que no sabe si van a suceder más cos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Este mes </a:t>
            </a:r>
            <a:r>
              <a:rPr b="1" lang="es-ES" sz="3200" spc="-1" strike="noStrike">
                <a:solidFill>
                  <a:srgbClr val="ff3399"/>
                </a:solidFill>
                <a:latin typeface="Arial"/>
              </a:rPr>
              <a:t>todavía no hemos ido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al c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 frecuencia los empleos de este tiempo van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sin ningún tipo de marcador tempora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1" lang="es-ES" sz="3200" spc="-1" strike="noStrike">
                <a:solidFill>
                  <a:srgbClr val="ff3399"/>
                </a:solidFill>
                <a:latin typeface="Arial"/>
              </a:rPr>
              <a:t>Has leído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el Quijote? Sí, claro , lo </a:t>
            </a:r>
            <a:r>
              <a:rPr b="1" lang="es-ES" sz="3200" spc="-1" strike="noStrike">
                <a:solidFill>
                  <a:srgbClr val="ff3399"/>
                </a:solidFill>
                <a:latin typeface="Arial"/>
              </a:rPr>
              <a:t>he leído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tres ve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y que notar  que aún cuando el pretérito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perfec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va acompañado por un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marcador tempora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dificilmen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puede tratarse de marcadores que remitan a un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pasado acaba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" sz="3200" spc="-1" strike="noStrike">
                <a:solidFill>
                  <a:srgbClr val="ff3399"/>
                </a:solidFill>
                <a:latin typeface="Arial"/>
              </a:rPr>
              <a:t>año pasado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me </a:t>
            </a:r>
            <a:r>
              <a:rPr b="0" i="1" lang="es-ES" sz="3200" spc="-1" strike="noStrike">
                <a:solidFill>
                  <a:srgbClr val="ff3399"/>
                </a:solidFill>
                <a:latin typeface="Arial"/>
              </a:rPr>
              <a:t>compré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un coche nuevo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99"/>
                </a:solidFill>
                <a:latin typeface="Arial"/>
              </a:rPr>
              <a:t>N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*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el año pasado me he comprado un coche nue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05920" cy="58212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oposición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pretérito perfecto/ pretérito indefini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es algo exclusivamente </a:t>
            </a:r>
            <a:r>
              <a:rPr b="1" lang="es-ES" sz="3200" spc="-1" strike="noStrike">
                <a:solidFill>
                  <a:srgbClr val="ff3399"/>
                </a:solidFill>
                <a:latin typeface="Arial"/>
              </a:rPr>
              <a:t>linguístic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en que la lengua remite a si misma y no en su consideración referen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 hecho si se intenta en el mundo real de encontrar una oposición que en realidad no existe, se caerá en </a:t>
            </a:r>
            <a:r>
              <a:rPr b="1" lang="es-ES" sz="3200" spc="-1" strike="noStrike">
                <a:solidFill>
                  <a:srgbClr val="ff3399"/>
                </a:solidFill>
                <a:latin typeface="Arial"/>
              </a:rPr>
              <a:t>errore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como el de creer que el </a:t>
            </a:r>
            <a:r>
              <a:rPr b="1" lang="es-ES" sz="3200" spc="-1" strike="noStrike">
                <a:solidFill>
                  <a:srgbClr val="ff3399"/>
                </a:solidFill>
                <a:latin typeface="Arial"/>
              </a:rPr>
              <a:t>pretérito perfecto se refiere a a acciones más reciente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 lo tanto no hay que buscar esta oposición en los acontecimientos y acciones extralinguísticos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no en lo que hace el hablante al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evocarlos linguísticamen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. con el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etérito </a:t>
            </a:r>
            <a:r>
              <a:rPr b="1" lang="es-ES" sz="3200" spc="-1" strike="noStrike">
                <a:solidFill>
                  <a:srgbClr val="ff3399"/>
                </a:solidFill>
                <a:latin typeface="Arial"/>
              </a:rPr>
              <a:t>indefinid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senta los acontecimientos como el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centro de su interé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 con el </a:t>
            </a:r>
            <a:r>
              <a:rPr b="1" lang="es-ES" sz="3200" spc="-1" strike="noStrike">
                <a:solidFill>
                  <a:srgbClr val="ff3399"/>
                </a:solidFill>
                <a:latin typeface="Arial"/>
              </a:rPr>
              <a:t>Imperfect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los utiliza para crear un </a:t>
            </a:r>
            <a:r>
              <a:rPr b="1" lang="es-ES" sz="3200" spc="-1" strike="noStrike">
                <a:solidFill>
                  <a:srgbClr val="ff3399"/>
                </a:solidFill>
                <a:latin typeface="Arial"/>
              </a:rPr>
              <a:t>marco contextual, evocar una situació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. con el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3399"/>
                </a:solidFill>
                <a:latin typeface="Arial"/>
              </a:rPr>
              <a:t>pretérit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3399"/>
                </a:solidFill>
                <a:latin typeface="Arial"/>
              </a:rPr>
              <a:t>perfect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habla de cosas pasadas que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e interesan por su </a:t>
            </a:r>
            <a:r>
              <a:rPr b="1" lang="es-ES" sz="3200" spc="-1" strike="noStrike">
                <a:solidFill>
                  <a:srgbClr val="ff3399"/>
                </a:solidFill>
                <a:latin typeface="Arial"/>
              </a:rPr>
              <a:t>relación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3399"/>
                </a:solidFill>
                <a:latin typeface="Arial"/>
              </a:rPr>
              <a:t>con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el presente de la enunciació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ituación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¿Por qué te fuiste de la fiesta sin decir nad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orque __________ (estar) demasiado borrach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orque __________ (enfadarse) con mis amig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s que __________ (recibir) una llamada urg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s que no me __________ (gustar) la mús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381880" cy="55166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ituación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¿Por qué volviste a casa tan tarde anoch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s que __________ (perder) el último autobús y a esas horas de la noche el metro __________ (estar) cerra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orque no __________ (tener) dinero para un tax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s que la película __________ (acabar) muy tar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orque mi reloj no __________ (funcionar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¿Por qué no contestaste ayer mi mensaj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orque no __________ (tener) sal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orque en ese momento __________ (estar) en clase de piano y no __________ (llevar) el móvil enci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s que no lo __________ (recibir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orque mi móvil __________ (romperse) y en ese momento __________ (estar) apaga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tercera categoría, de naturaleza discursiva, defendida, entre otros, por Matte Bon establece que  el imperfecto presenta una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situación estátic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que sirve de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fondo contextual a los sucesos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n indefinido, que son los que hacen progresar la narra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51920" y="685800"/>
            <a:ext cx="8534520" cy="54403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¿Por qué no te compraste la camiset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orque no __________ (tener) suficiente diner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s que __________ (cambiar) de opinión, __________ (ser) demasiado ca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orque no me __________ (quedar) bien, es que no __________ (ser) mi talla y me iba un poco gran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orque Lucía se __________ (comprar) la mis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8212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¿Por qué no me llamaste por teléfono el día de mi cumpleaño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orque __________ (olvidarse) completam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orque __________ (equivocarse) de fech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s que __________ (perder) mi agen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orque no __________ (tener) tu nuevo núme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229600" cy="52578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Recapitulan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uando hablamos de una </a:t>
            </a:r>
            <a:r>
              <a:rPr b="1" lang="it-IT" sz="3200" spc="-1" strike="noStrike">
                <a:solidFill>
                  <a:srgbClr val="ff3399"/>
                </a:solidFill>
                <a:latin typeface="Arial"/>
              </a:rPr>
              <a:t>situación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ff3399"/>
                </a:solidFill>
                <a:latin typeface="Arial"/>
              </a:rPr>
              <a:t>pasada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, el uso del </a:t>
            </a:r>
            <a:r>
              <a:rPr b="1" lang="it-IT" sz="3200" spc="-1" strike="noStrike">
                <a:solidFill>
                  <a:srgbClr val="ff3399"/>
                </a:solidFill>
                <a:latin typeface="Arial"/>
              </a:rPr>
              <a:t>imperfecto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 es </a:t>
            </a:r>
            <a:r>
              <a:rPr b="1" lang="it-IT" sz="3200" spc="-1" strike="noStrike">
                <a:solidFill>
                  <a:srgbClr val="ff3399"/>
                </a:solidFill>
                <a:latin typeface="Arial"/>
              </a:rPr>
              <a:t>equivalent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al uso del </a:t>
            </a:r>
            <a:r>
              <a:rPr b="1" lang="it-IT" sz="3200" spc="-1" strike="noStrike">
                <a:solidFill>
                  <a:srgbClr val="ff3399"/>
                </a:solidFill>
                <a:latin typeface="Arial"/>
              </a:rPr>
              <a:t>present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cuando hablamos de una </a:t>
            </a:r>
            <a:r>
              <a:rPr b="1" lang="it-IT" sz="3200" spc="-1" strike="noStrike">
                <a:solidFill>
                  <a:srgbClr val="ff3399"/>
                </a:solidFill>
                <a:latin typeface="Arial"/>
              </a:rPr>
              <a:t>situación pres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it-IT" sz="3200" spc="-1" strike="noStrike">
                <a:solidFill>
                  <a:srgbClr val="ff3399"/>
                </a:solidFill>
                <a:latin typeface="Arial"/>
              </a:rPr>
              <a:t>Present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describe hechos </a:t>
            </a:r>
            <a:r>
              <a:rPr b="1" lang="it-IT" sz="3200" spc="-1" strike="noStrike">
                <a:solidFill>
                  <a:srgbClr val="ff3399"/>
                </a:solidFill>
                <a:latin typeface="Arial"/>
              </a:rPr>
              <a:t>no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ff3399"/>
                </a:solidFill>
                <a:latin typeface="Arial"/>
              </a:rPr>
              <a:t>terminados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en un momento </a:t>
            </a:r>
            <a:r>
              <a:rPr b="1" lang="it-IT" sz="3200" spc="-1" strike="noStrike">
                <a:solidFill>
                  <a:srgbClr val="ff3399"/>
                </a:solidFill>
                <a:latin typeface="Arial"/>
              </a:rPr>
              <a:t>actual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it-IT" sz="3200" spc="-1" strike="noStrike">
                <a:solidFill>
                  <a:srgbClr val="ff3399"/>
                </a:solidFill>
                <a:latin typeface="Arial"/>
              </a:rPr>
              <a:t>imperfecto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describe hechos </a:t>
            </a:r>
            <a:r>
              <a:rPr b="1" lang="it-IT" sz="3200" spc="-1" strike="noStrike">
                <a:solidFill>
                  <a:srgbClr val="ff3399"/>
                </a:solidFill>
                <a:latin typeface="Arial"/>
              </a:rPr>
              <a:t>no terminados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en un momento del pas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Es decir, con el </a:t>
            </a:r>
            <a:r>
              <a:rPr b="1" lang="it-IT" sz="3200" spc="-1" strike="noStrike">
                <a:solidFill>
                  <a:srgbClr val="ff3399"/>
                </a:solidFill>
                <a:latin typeface="Arial"/>
              </a:rPr>
              <a:t>imperfecto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reflejamos un hecho </a:t>
            </a:r>
            <a:r>
              <a:rPr b="1" lang="it-IT" sz="3200" spc="-1" strike="noStrike">
                <a:solidFill>
                  <a:srgbClr val="ff3399"/>
                </a:solidFill>
                <a:latin typeface="Arial"/>
              </a:rPr>
              <a:t>del pasado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que era </a:t>
            </a:r>
            <a:r>
              <a:rPr b="1" lang="it-IT" sz="3200" spc="-1" strike="noStrike">
                <a:solidFill>
                  <a:srgbClr val="ff3399"/>
                </a:solidFill>
                <a:latin typeface="Arial"/>
              </a:rPr>
              <a:t>actual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1" lang="it-IT" sz="3200" spc="-1" strike="noStrike">
                <a:solidFill>
                  <a:srgbClr val="ff3399"/>
                </a:solidFill>
                <a:latin typeface="Arial"/>
              </a:rPr>
              <a:t>aquel momento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del que hablamos aho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 el </a:t>
            </a:r>
            <a:r>
              <a:rPr b="1" lang="it-IT" sz="3200" spc="-1" strike="noStrike">
                <a:solidFill>
                  <a:srgbClr val="ff3399"/>
                </a:solidFill>
                <a:latin typeface="Arial"/>
              </a:rPr>
              <a:t>Pretérito indefinido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reflejamos un hecho </a:t>
            </a:r>
            <a:r>
              <a:rPr b="1" lang="it-IT" sz="3200" spc="-1" strike="noStrike">
                <a:solidFill>
                  <a:srgbClr val="ff3399"/>
                </a:solidFill>
                <a:latin typeface="Arial"/>
              </a:rPr>
              <a:t>pasado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ff3399"/>
                </a:solidFill>
                <a:latin typeface="Arial"/>
              </a:rPr>
              <a:t>ya terminado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en un momento del </a:t>
            </a:r>
            <a:r>
              <a:rPr b="1" lang="it-IT" sz="3200" spc="-1" strike="noStrike">
                <a:solidFill>
                  <a:srgbClr val="ff3399"/>
                </a:solidFill>
                <a:latin typeface="Arial"/>
              </a:rPr>
              <a:t>pasado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tamos algo que </a:t>
            </a:r>
            <a:r>
              <a:rPr b="1" lang="it-IT" sz="3200" spc="-1" strike="noStrike">
                <a:solidFill>
                  <a:srgbClr val="ff3399"/>
                </a:solidFill>
                <a:latin typeface="Arial"/>
              </a:rPr>
              <a:t>ya había sucedido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ff3399"/>
                </a:solidFill>
                <a:latin typeface="Arial"/>
              </a:rPr>
              <a:t>completament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en aquel momen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del que habla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153280" cy="57452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Esto mismo sucede cuando utilizamos el </a:t>
            </a:r>
            <a:r>
              <a:rPr b="1" lang="it-IT" sz="2800" spc="-1" strike="noStrike">
                <a:solidFill>
                  <a:srgbClr val="ff3399"/>
                </a:solidFill>
                <a:latin typeface="Arial"/>
              </a:rPr>
              <a:t>Pretérito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ff3399"/>
                </a:solidFill>
                <a:latin typeface="Arial"/>
              </a:rPr>
              <a:t>Perfecto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referido a un momento </a:t>
            </a:r>
            <a:r>
              <a:rPr b="1" lang="it-IT" sz="2800" spc="-1" strike="noStrike">
                <a:solidFill>
                  <a:srgbClr val="ff3399"/>
                </a:solidFill>
                <a:latin typeface="Arial"/>
              </a:rPr>
              <a:t>actual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: hablamos de un hecho que ya ha terminado en ese mo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it-IT" sz="2800" spc="-1" strike="noStrike">
                <a:solidFill>
                  <a:srgbClr val="ff3399"/>
                </a:solidFill>
                <a:latin typeface="Arial"/>
              </a:rPr>
              <a:t>Pretérito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ff3399"/>
                </a:solidFill>
                <a:latin typeface="Arial"/>
              </a:rPr>
              <a:t>Perfecto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representa hechos no terminados en un momento actu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uando hablamos de una situación pasada, el uso del </a:t>
            </a:r>
            <a:r>
              <a:rPr b="1" lang="it-IT" sz="2800" spc="-1" strike="noStrike">
                <a:solidFill>
                  <a:srgbClr val="ff3399"/>
                </a:solidFill>
                <a:latin typeface="Arial"/>
              </a:rPr>
              <a:t>Pretérito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ff3399"/>
                </a:solidFill>
                <a:latin typeface="Arial"/>
              </a:rPr>
              <a:t>Perfecto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es equivalente al uso del </a:t>
            </a:r>
            <a:r>
              <a:rPr b="1" lang="it-IT" sz="2800" spc="-1" strike="noStrike">
                <a:solidFill>
                  <a:srgbClr val="ff3399"/>
                </a:solidFill>
                <a:latin typeface="Arial"/>
              </a:rPr>
              <a:t>Presente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cuando hablamos de una situación pres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05920" cy="58212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egún la primera  perspectiva, entendemos que el pretérito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indefinid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presenta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estados, procesos o acciones como totalmente realizados y concluidos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. Por ello cuando lo utilizamos en una narración, con él informamos de que un proceso empezó, se desarrolló y terminó en el punto de la historia en el que estam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l pretérito imperfecto, en cambio,describe un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tramo inter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haciendo abstracción de su fase inicial y de su término. Cuando narramos, con el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imperfec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informamos de que un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proceso estaba en marcha en el punto de la historia en el que nos encontramos, sin decir nada sobre su f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uando usamos el indefinido vemos el hecho después de ocurrido; estamos mirándolo “</a:t>
            </a:r>
            <a:r>
              <a:rPr b="0" lang="it-IT" sz="3200" spc="-1" strike="noStrike">
                <a:solidFill>
                  <a:srgbClr val="ff3399"/>
                </a:solidFill>
                <a:latin typeface="Arial"/>
              </a:rPr>
              <a:t>desde fuera”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del propio even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Hay que recalcar que si bien el </a:t>
            </a:r>
            <a:r>
              <a:rPr b="0" lang="it-IT" sz="3200" spc="-1" strike="noStrike">
                <a:solidFill>
                  <a:srgbClr val="ff3399"/>
                </a:solidFill>
                <a:latin typeface="Arial"/>
              </a:rPr>
              <a:t>imperfec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3399"/>
                </a:solidFill>
                <a:latin typeface="Arial"/>
              </a:rPr>
              <a:t>no informa sobre el térmi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de la acción o estado, esto no significa que exprese explícitamente su continuidad o su no término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icha confusión ha dado lugar a explicaciones gramaticales erroneas como la siguiente: 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El pretérito imperfecto expresa acciones inacabadas. El pretérito indefinido expres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acciones acab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u</cp:lastModifiedBy>
  <dcterms:modified xsi:type="dcterms:W3CDTF">2011-12-07T14:20:55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